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8CB4-602B-4B52-85B7-21E93612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4E60-424A-4E1B-825E-A8E900FB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35AA-73DF-4086-A4EE-38E1EB86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B648-1D1C-4B99-9F09-F3BD8B19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D9E-848A-4B92-90B8-A114C21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74D3-58BF-4E14-BEAD-2061E9A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7236-DE23-4AD1-87ED-1F0AD763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B77D-61AD-4A31-AA45-6F53A65D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C86-B401-40F3-A9C7-AB37F9DD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4C79-61D3-458C-806A-3F973397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E19-5D4C-4C38-B4E8-009FC35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671C-FBEB-43BE-B8A2-E73A4551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E295-F090-45CA-A19F-ACB6DE2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518-8DBB-48D3-978E-ECB71EF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9005-04C6-4603-A83A-3F8FD3E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98F7-623B-4F46-A210-D3D7D9BC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CF8-B1FA-4C60-B49F-5716C1C6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B7DC-2ADB-4779-A3B5-80CCBBCD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6651-97CA-4337-AD70-E6C698A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3C52-D44F-4736-A43B-A037A3C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B989-5247-4214-9C5A-FC5653F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AF52-7FC7-4663-A0D4-7A40B33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A936-4E65-4059-A585-2B7A0E5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C8A9-3318-45FC-BA4E-70668E4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A270-11C6-4DE8-B7A4-134DCE92B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DC57-AA92-4484-A518-D9C581962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onelyplanet.com/dominican-republic" TargetMode="External"/><Relationship Id="rId2" Type="http://schemas.openxmlformats.org/officeDocument/2006/relationships/hyperlink" Target="http://www.lonelyplanet.com/dominican-republic/restaurants" TargetMode="External"/><Relationship Id="rId3" Type="http://schemas.openxmlformats.org/officeDocument/2006/relationships/hyperlink" Target="http://www.lonelyplanet.com/dominican-republic/entertainment-nightlife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e5ff"/>
                </a:solidFill>
                <a:latin typeface="Bradley Hand ITC"/>
              </a:rPr>
              <a:t>Dominican Republic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By: Matt Gre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Playita (Little Beach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9051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Bradley Hand ITC TT-Bold"/>
              </a:rPr>
              <a:t>Dominican</a:t>
            </a:r>
            <a:r>
              <a:rPr b="1" lang="en-US" sz="6600" spc="-1" strike="noStrike">
                <a:solidFill>
                  <a:srgbClr val="003399"/>
                </a:solidFill>
                <a:latin typeface="Bradley Hand ITC TT-Bol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Bradley Hand ITC TT-Bold"/>
              </a:rPr>
              <a:t>Republi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6491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y: Matt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53352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52800" cy="2590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3124440" cy="28479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124440" cy="28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666880" y="5105520"/>
            <a:ext cx="4064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u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o Papa,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jegué en mi hotel.  Mi hotel es en Santo Domingo, Dominican Republic.  Es muy grande y es fantastico.  Hace buen tiempo. El sol es brilla en el cielo, es bonita.  Mi hotel es cerca de el mar.  Mi hotel tiene una vista all mar.  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Esto va a ser una gran semana.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543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Querida Mama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es mucho calor y parecía un día perfecto para la playa. Fui a la Playa Grande en Puerto Plata.  Yo traje mi toalla playera y mi crème protectora.   Tomé mucho nado en el fresco mar. 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También tomé en el sol por un tiempo. Con el tiempo me fui a dormir.   Después de un largo dia en la Playa Grande, fui la cena en </a:t>
            </a:r>
            <a:r>
              <a:rPr b="1" lang="en-US" sz="1800" spc="-1" strike="noStrike">
                <a:solidFill>
                  <a:srgbClr val="ffffff"/>
                </a:solidFill>
                <a:latin typeface="Bradley Hand ITC TT-Bold"/>
              </a:rPr>
              <a:t>Mesón del Jamón.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  Lo fui muy delicioso.  Hoy es magnific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543800" cy="21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Meirco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a Livi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Hoy esta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nublado y lloviendo mucho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.  Así que me decidí a ir de compras. Centro de la ciudad es lleno con mucho culturas.  Es muy bonita. Es como el Nueva York de la República Dominicana.  Compré mucho ropas y nick-nacks en el Supermercado Nacional.  Compré tu “República Dominicana” camiseta y un sombrero.  El sombrero es muy grand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 TT-Bold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467480" cy="2187360"/>
          </a:xfrm>
          <a:prstGeom prst="rect">
            <a:avLst/>
          </a:prstGeom>
          <a:ln w="38160">
            <a:solidFill>
              <a:srgbClr val="7f67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Jue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o Khailil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Yo fui a la Playa Grande de nuevo hoy porque hoy es mucho calor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.  Esta vez yo traté tabla hawaiana.  Es muy difícil.  Las grandes olas hizo aún más difícil. Después de un difícil dia en la Playa Grande, fui a un club, Guácara Taína.  El club había muchas personas en él. Hubo música y baile.  Fue muy divertido.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 mí me gustó much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Hasta pronto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3938760"/>
            <a:ext cx="7543800" cy="2187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Vier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Quierda Emma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es mi pasado dia.  Hoy es calor y un poco nublado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Me decidí a ir a mirar un evento deportivo. El deporte fue el b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ヒラギノ角ゴ ProN W3"/>
              </a:rPr>
              <a:t>éi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bol. Miré dos equipos, el equipo Licey y Escogido equipo, el juego. Fue incre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ヒラギノ角ゴ ProN W3"/>
              </a:rPr>
              <a:t>íb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AppleGothic"/>
              </a:rPr>
              <a:t>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e. Me encantó mirar la versi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ón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de un país diferente de un deporte americano. Espero que algún día yo pueda traer aquí para mirar conmig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1913040" y="79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620120" cy="2187360"/>
          </a:xfrm>
          <a:prstGeom prst="rect">
            <a:avLst/>
          </a:prstGeom>
          <a:ln w="38160">
            <a:solidFill>
              <a:srgbClr val="2a5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lonelyplanet.com/dominican-repub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lonelyplanet.com/dominican-republic/restaur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lonelyplanet.com/dominican-republic/entertainment-nightlif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lonelyplanet.com/dominican-republic/travel-tips-and-articles/7682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lonelyplanet.com/dominican-republic/travel-tips-and-articles/3762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hotels.lonelyplanet.com/dominican-republic/santo-domingo-r1974442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images.google.com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6:50Z</dcterms:created>
  <dc:creator>greenmat</dc:creator>
  <dc:description/>
  <dc:language>en-US</dc:language>
  <cp:lastModifiedBy>sandra green</cp:lastModifiedBy>
  <dcterms:modified xsi:type="dcterms:W3CDTF">2011-12-02T21:06:52Z</dcterms:modified>
  <cp:revision>15</cp:revision>
  <dc:subject/>
  <dc:title>Dominican Republic</dc:title>
</cp:coreProperties>
</file>